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3375360"/>
            <a:ext cx="853416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7840" y="68580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337536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7840" y="337536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27478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0680" y="685800"/>
            <a:ext cx="27478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080" y="685800"/>
            <a:ext cx="27478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3375360"/>
            <a:ext cx="27478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0680" y="3375360"/>
            <a:ext cx="27478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080" y="3375360"/>
            <a:ext cx="27478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4920" y="685800"/>
            <a:ext cx="8534160" cy="51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087"/>
              </a:spcBef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990066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51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4164480" cy="51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7840" y="685800"/>
            <a:ext cx="4164480" cy="51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4920" y="76320"/>
            <a:ext cx="8534160" cy="23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5500" spc="-1" strike="noStrike">
              <a:solidFill>
                <a:srgbClr val="990066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7840" y="685800"/>
            <a:ext cx="4164480" cy="51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4920" y="337536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685800"/>
            <a:ext cx="8534160" cy="51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087"/>
              </a:spcBef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990066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4164480" cy="51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7840" y="68580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7840" y="337536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7840" y="68580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4920" y="3375360"/>
            <a:ext cx="853416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4920" y="3375360"/>
            <a:ext cx="853416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7840" y="68580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4920" y="337536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7840" y="337536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27478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90680" y="685800"/>
            <a:ext cx="27478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6080" y="685800"/>
            <a:ext cx="27478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4920" y="3375360"/>
            <a:ext cx="27478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90680" y="3375360"/>
            <a:ext cx="27478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6080" y="3375360"/>
            <a:ext cx="27478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304920" y="685800"/>
            <a:ext cx="8534160" cy="51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087"/>
              </a:spcBef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990066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51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4164480" cy="51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7840" y="685800"/>
            <a:ext cx="4164480" cy="51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51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304920" y="76320"/>
            <a:ext cx="8534160" cy="23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5500" spc="-1" strike="noStrike">
              <a:solidFill>
                <a:srgbClr val="990066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7840" y="685800"/>
            <a:ext cx="4164480" cy="51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304920" y="337536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4164480" cy="51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7840" y="68580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7840" y="337536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7840" y="68580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304920" y="3375360"/>
            <a:ext cx="853416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04920" y="3375360"/>
            <a:ext cx="853416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7840" y="68580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304920" y="337536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7840" y="337536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27478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190680" y="685800"/>
            <a:ext cx="27478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76080" y="685800"/>
            <a:ext cx="27478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304920" y="3375360"/>
            <a:ext cx="27478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190680" y="3375360"/>
            <a:ext cx="27478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76080" y="3375360"/>
            <a:ext cx="27478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304920" y="685800"/>
            <a:ext cx="8534160" cy="51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087"/>
              </a:spcBef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990066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51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4164480" cy="51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7840" y="685800"/>
            <a:ext cx="4164480" cy="51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4164480" cy="51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7840" y="685800"/>
            <a:ext cx="4164480" cy="51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304920" y="76320"/>
            <a:ext cx="8534160" cy="23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5500" spc="-1" strike="noStrike">
              <a:solidFill>
                <a:srgbClr val="990066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7840" y="685800"/>
            <a:ext cx="4164480" cy="51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304920" y="337536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4164480" cy="51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7840" y="68580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7840" y="337536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7840" y="68580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304920" y="3375360"/>
            <a:ext cx="853416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04920" y="3375360"/>
            <a:ext cx="853416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7840" y="68580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304920" y="337536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7840" y="337536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27478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190680" y="685800"/>
            <a:ext cx="27478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076080" y="685800"/>
            <a:ext cx="27478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304920" y="3375360"/>
            <a:ext cx="27478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190680" y="3375360"/>
            <a:ext cx="27478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076080" y="3375360"/>
            <a:ext cx="27478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4920" y="76320"/>
            <a:ext cx="8534160" cy="23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5500" spc="-1" strike="noStrike">
              <a:solidFill>
                <a:srgbClr val="990066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685800"/>
            <a:ext cx="4164480" cy="51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337536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4164480" cy="51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7840" y="68580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7840" y="337536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7840" y="68580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3375360"/>
            <a:ext cx="853416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685800"/>
            <a:ext cx="8534160" cy="51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34272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34272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286000" indent="-3348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286000" indent="-334800">
              <a:spcBef>
                <a:spcPts val="1687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286000" indent="-334800">
              <a:spcBef>
                <a:spcPts val="1687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228600" y="6535440"/>
            <a:ext cx="4246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5 Pearson Education, Inc. publishing as Benjamin Cumming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04920" y="6553080"/>
            <a:ext cx="8534160" cy="0"/>
          </a:xfrm>
          <a:prstGeom prst="line">
            <a:avLst/>
          </a:prstGeom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04920" y="609480"/>
            <a:ext cx="8534160" cy="0"/>
          </a:xfrm>
          <a:prstGeom prst="line">
            <a:avLst/>
          </a:prstGeom>
          <a:ln w="507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6110280"/>
            <a:ext cx="9144000" cy="762120"/>
          </a:xfrm>
          <a:prstGeom prst="rect">
            <a:avLst/>
          </a:prstGeom>
          <a:solidFill>
            <a:srgbClr val="b7da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solidFill>
            <a:srgbClr val="008d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74680" y="6537240"/>
            <a:ext cx="41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5 Pearson Education, Inc. publishing as Benjamin Cumming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60280" y="4648320"/>
            <a:ext cx="868680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PowerPoint Lectures for </a:t>
            </a:r>
            <a:br>
              <a:rPr sz="1800"/>
            </a:br>
            <a:r>
              <a:rPr b="1" i="1" lang="en-US" sz="1800" spc="-1" strike="noStrike">
                <a:solidFill>
                  <a:srgbClr val="006699"/>
                </a:solidFill>
                <a:latin typeface="Arial"/>
              </a:rPr>
              <a:t>Biology, Seventh Ed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90120" y="5273640"/>
            <a:ext cx="2751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990066"/>
                </a:solidFill>
                <a:latin typeface="Times New Roman"/>
              </a:rPr>
              <a:t>Neil Campbell and Jane Ree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36880" y="6095880"/>
            <a:ext cx="278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66"/>
                </a:solidFill>
                <a:latin typeface="Times New Roman"/>
              </a:rPr>
              <a:t>Lectures by Chris Rome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07720" y="156960"/>
            <a:ext cx="87073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spcBef>
                <a:spcPts val="3087"/>
              </a:spcBef>
              <a:spcAft>
                <a:spcPts val="13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990066"/>
                </a:solidFill>
                <a:latin typeface="Times New Roman"/>
              </a:rPr>
              <a:t>Click to edit the outline text format</a:t>
            </a:r>
            <a:endParaRPr b="0" lang="en-US" sz="5500" spc="-1" strike="noStrike">
              <a:solidFill>
                <a:srgbClr val="990066"/>
              </a:solidFill>
              <a:latin typeface="Times New Roman"/>
            </a:endParaRPr>
          </a:p>
          <a:p>
            <a:pPr lvl="1" marL="379440" indent="0" algn="ctr">
              <a:spcBef>
                <a:spcPts val="1576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58880" indent="94680" algn="ctr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138320" indent="94680" algn="ctr"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517760" indent="101520" algn="ctr"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517760" indent="1015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517760" indent="1015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04920" y="1218960"/>
            <a:ext cx="8534160" cy="51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34272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34272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286000" indent="-3348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286000" indent="-334800">
              <a:spcBef>
                <a:spcPts val="1687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286000" indent="-334800">
              <a:spcBef>
                <a:spcPts val="1687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6535440"/>
            <a:ext cx="4246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5 Pearson Education, Inc. publishing as Benjamin Cumming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04920" y="6553080"/>
            <a:ext cx="8534160" cy="0"/>
          </a:xfrm>
          <a:prstGeom prst="line">
            <a:avLst/>
          </a:prstGeom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4920" y="1003320"/>
            <a:ext cx="8534160" cy="0"/>
          </a:xfrm>
          <a:prstGeom prst="line">
            <a:avLst/>
          </a:prstGeom>
          <a:ln w="507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6110280"/>
            <a:ext cx="9144000" cy="762120"/>
          </a:xfrm>
          <a:prstGeom prst="rect">
            <a:avLst/>
          </a:prstGeom>
          <a:solidFill>
            <a:srgbClr val="b7da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solidFill>
            <a:srgbClr val="008d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73240" y="6537240"/>
            <a:ext cx="41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5 Pearson Education, Inc. publishing as Benjamin Cumming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60280" y="4648320"/>
            <a:ext cx="868680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PowerPoint Lectures for </a:t>
            </a:r>
            <a:br>
              <a:rPr sz="1800"/>
            </a:br>
            <a:r>
              <a:rPr b="1" i="1" lang="en-US" sz="1800" spc="-1" strike="noStrike">
                <a:solidFill>
                  <a:srgbClr val="006699"/>
                </a:solidFill>
                <a:latin typeface="Arial"/>
              </a:rPr>
              <a:t>Biology, Seventh Ed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90120" y="5273640"/>
            <a:ext cx="2751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990066"/>
                </a:solidFill>
                <a:latin typeface="Times New Roman"/>
              </a:rPr>
              <a:t>Neil Campbell and Jane Ree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36880" y="6095880"/>
            <a:ext cx="278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66"/>
                </a:solidFill>
                <a:latin typeface="Times New Roman"/>
              </a:rPr>
              <a:t>Lectures by Chris Rome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06280" y="156960"/>
            <a:ext cx="87091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07720" y="156960"/>
            <a:ext cx="87073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Arial"/>
              </a:rPr>
              <a:t>Chapter 3</a:t>
            </a:r>
            <a:endParaRPr b="1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239400" y="1531440"/>
            <a:ext cx="867564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87"/>
              </a:spcBef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990066"/>
                </a:solidFill>
                <a:latin typeface="Times New Roman"/>
              </a:rPr>
              <a:t>Water and the Fitness of </a:t>
            </a:r>
            <a:br>
              <a:rPr sz="5500"/>
            </a:br>
            <a:r>
              <a:rPr b="0" lang="en-US" sz="5500" spc="-1" strike="noStrike">
                <a:solidFill>
                  <a:srgbClr val="990066"/>
                </a:solidFill>
                <a:latin typeface="Times New Roman"/>
              </a:rPr>
              <a:t>the Environment</a:t>
            </a:r>
            <a:endParaRPr b="0" lang="en-US" sz="5500" spc="-1" strike="noStrike">
              <a:solidFill>
                <a:srgbClr val="990066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8534520" y="601992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701A4-5DD5-49EE-8D75-6DCC71A347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Moderation of Temperature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ater moderates air temperatu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absorbing heat from air that is warmer and releasing the stored heat to air that is coo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8534520" y="601992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DD3AF-90D2-40AE-B288-DD8FB74BAA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Heat and Temperature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04920" y="685440"/>
            <a:ext cx="8534160" cy="13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inetic energ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the energy of mo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8534520" y="601992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758A0-F13C-4F32-A0CF-933A348129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04920" y="685440"/>
            <a:ext cx="8534160" cy="32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e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a measure of the total amount of kinetic energy due to molecular mo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emperatu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asures the intensity of he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8534520" y="601992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6E451-90E0-401A-9CC2-295FFF1E27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Water’s High Specific Heat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685440"/>
            <a:ext cx="8534160" cy="295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specific heat of a substa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the amount of heat that must be absorbed or lost for 1 gram of that substance to change its temperature by 1º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8534520" y="601992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56A6D-8826-4620-A5C3-CC76E24493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304920" y="685440"/>
            <a:ext cx="8534160" cy="29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ater has a high specific heat, which allows it to minimize temperature fluctuations to within limits that permit lif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t is absorbed when hydrogen bonds brea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t is released when hydrogen bonds 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534520" y="601992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48D38-C497-4D4C-AE72-6897307E26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Evaporative Cooling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vapor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the transformation of a substance from a liquid to a g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8534520" y="601992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89007-4562-4CB9-9091-20F7B3CE58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22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eat of vaporiz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the quantity of heat a liquid must absorb for 1 gram of it to be converted from a liquid to a g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8534520" y="601992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DD663-8154-4A21-AA74-67D9F6F874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04920" y="685440"/>
            <a:ext cx="8534160" cy="20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vaporative cool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due to water’s high heat of vapor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s water to cool a surf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8534520" y="601992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0D5D0-BB55-4022-98B6-4934B8A49B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Insulation of Bodies of Water by Floating Ice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685440"/>
            <a:ext cx="8534160" cy="20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lid water, or i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less dense than liquid w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oats in liquid w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8534520" y="601992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60360-8F45-4275-B0AD-51FA630C46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hydrogen bonds in i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more “ordered” than in liquid water, making ice less de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499680" y="2827440"/>
            <a:ext cx="8031960" cy="3575160"/>
            <a:chOff x="499680" y="2827440"/>
            <a:chExt cx="8031960" cy="3575160"/>
          </a:xfrm>
        </p:grpSpPr>
        <p:grpSp>
          <p:nvGrpSpPr>
            <p:cNvPr id="260" name=""/>
            <p:cNvGrpSpPr/>
            <p:nvPr/>
          </p:nvGrpSpPr>
          <p:grpSpPr>
            <a:xfrm>
              <a:off x="1616400" y="2827440"/>
              <a:ext cx="6915240" cy="3575160"/>
              <a:chOff x="1616400" y="2827440"/>
              <a:chExt cx="6915240" cy="3575160"/>
            </a:xfrm>
          </p:grpSpPr>
          <p:pic>
            <p:nvPicPr>
              <p:cNvPr id="261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870560" y="2827440"/>
                <a:ext cx="6588000" cy="2133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2" name=""/>
              <p:cNvSpPr/>
              <p:nvPr/>
            </p:nvSpPr>
            <p:spPr>
              <a:xfrm>
                <a:off x="5763240" y="5482440"/>
                <a:ext cx="2768400" cy="920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Liquid wate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ts val="18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Hydrogen bonds </a:t>
                </a:r>
                <a:br>
                  <a:rPr sz="1600"/>
                </a:b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constantly break and re-form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1616400" y="5509440"/>
                <a:ext cx="2621880" cy="67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ts val="1899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Ic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ts val="1899"/>
                  </a:lnSpc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Hydrogen bonds are stabl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3012840" y="4894560"/>
                <a:ext cx="1120680" cy="54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ts val="18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Hydrogen </a:t>
                </a:r>
                <a:br>
                  <a:rPr sz="1600"/>
                </a:b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bond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3422880" y="3915720"/>
                <a:ext cx="127440" cy="10443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6" name=""/>
            <p:cNvSpPr/>
            <p:nvPr/>
          </p:nvSpPr>
          <p:spPr>
            <a:xfrm>
              <a:off x="499680" y="5879880"/>
              <a:ext cx="10278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igure 3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7" name=""/>
          <p:cNvSpPr/>
          <p:nvPr/>
        </p:nvSpPr>
        <p:spPr>
          <a:xfrm>
            <a:off x="8534520" y="601992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D45DE-7959-4B19-A92B-5584D28B40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29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verview: The Molecule That Supports All of Lif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ter is the biological medium here on Ear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living organisms require water more than any other subs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8534520" y="601992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693E3-D9BB-4557-9199-A0C24000FC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nce ice floats in wa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fe can exist under the frozen surfaces of lakes and polar s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8534520" y="601992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2D8DE-29D4-4ABD-9206-DCDF56BC7F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The Solvent of Life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4920" y="685440"/>
            <a:ext cx="8534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ater is a versatile solvent due to its polar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can form aqueous solu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8534520" y="601992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BB997-95D0-4C9F-BF7B-266632144F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different regions of the polar water molecule can interact with ionic compounds called solutes and dissolve the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6" name=""/>
          <p:cNvGrpSpPr/>
          <p:nvPr/>
        </p:nvGrpSpPr>
        <p:grpSpPr>
          <a:xfrm>
            <a:off x="1211040" y="2222280"/>
            <a:ext cx="6866280" cy="4229640"/>
            <a:chOff x="1211040" y="2222280"/>
            <a:chExt cx="6866280" cy="4229640"/>
          </a:xfrm>
        </p:grpSpPr>
        <p:grpSp>
          <p:nvGrpSpPr>
            <p:cNvPr id="277" name=""/>
            <p:cNvGrpSpPr/>
            <p:nvPr/>
          </p:nvGrpSpPr>
          <p:grpSpPr>
            <a:xfrm>
              <a:off x="1969920" y="2222280"/>
              <a:ext cx="6107400" cy="4203360"/>
              <a:chOff x="1969920" y="2222280"/>
              <a:chExt cx="6107400" cy="4203360"/>
            </a:xfrm>
          </p:grpSpPr>
          <p:pic>
            <p:nvPicPr>
              <p:cNvPr id="278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2301840" y="2357280"/>
                <a:ext cx="5703840" cy="4068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9" name=""/>
              <p:cNvSpPr/>
              <p:nvPr/>
            </p:nvSpPr>
            <p:spPr>
              <a:xfrm>
                <a:off x="4006800" y="2319120"/>
                <a:ext cx="0" cy="10234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2046240" y="2222280"/>
                <a:ext cx="1960560" cy="12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r">
                  <a:lnSpc>
                    <a:spcPts val="18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Negative 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oxygen regions 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of polar water molecules are attracted to sodium cations (Na</a:t>
                </a:r>
                <a:r>
                  <a:rPr b="0" lang="en-US" sz="1200" spc="-1" strike="noStrike" baseline="30000">
                    <a:solidFill>
                      <a:srgbClr val="000000"/>
                    </a:solidFill>
                    <a:latin typeface="Arial"/>
                  </a:rPr>
                  <a:t>+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)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7320960" y="2898720"/>
                <a:ext cx="30384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7773480" y="3787560"/>
                <a:ext cx="30384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7286040" y="3193920"/>
                <a:ext cx="30384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7293960" y="4095720"/>
                <a:ext cx="30384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6648120" y="3980160"/>
                <a:ext cx="60336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Cl </a:t>
                </a:r>
                <a:r>
                  <a:rPr b="0" lang="en-US" sz="1600" spc="-1" strike="noStrike" baseline="30000">
                    <a:solidFill>
                      <a:srgbClr val="000000"/>
                    </a:solidFill>
                    <a:latin typeface="Arial"/>
                  </a:rPr>
                  <a:t>–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7275240" y="3688920"/>
                <a:ext cx="27792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30000">
                    <a:solidFill>
                      <a:srgbClr val="000000"/>
                    </a:solidFill>
                    <a:latin typeface="Arial"/>
                  </a:rPr>
                  <a:t>–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7251480" y="4492080"/>
                <a:ext cx="28116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30000">
                    <a:solidFill>
                      <a:srgbClr val="000000"/>
                    </a:solidFill>
                    <a:latin typeface="Arial"/>
                  </a:rPr>
                  <a:t>–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7702560" y="3420360"/>
                <a:ext cx="27936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30000">
                    <a:solidFill>
                      <a:srgbClr val="000000"/>
                    </a:solidFill>
                    <a:latin typeface="Arial"/>
                  </a:rPr>
                  <a:t>–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7654680" y="4166640"/>
                <a:ext cx="28116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30000">
                    <a:solidFill>
                      <a:srgbClr val="000000"/>
                    </a:solidFill>
                    <a:latin typeface="Arial"/>
                  </a:rPr>
                  <a:t>–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6707160" y="3527280"/>
                <a:ext cx="56988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Na</a:t>
                </a:r>
                <a:r>
                  <a:rPr b="0" lang="en-US" sz="1600" spc="-1" strike="noStrike" baseline="30000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4987800" y="2788920"/>
                <a:ext cx="76320" cy="568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-5760" bIns="-5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5163840" y="3143160"/>
                <a:ext cx="76320" cy="568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-5760" bIns="-5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4673520" y="3879720"/>
                <a:ext cx="75960" cy="568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-5760" bIns="-5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4660560" y="4481280"/>
                <a:ext cx="76320" cy="583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-4320" bIns="-4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flipH="1">
                <a:off x="4006440" y="2827080"/>
                <a:ext cx="981000" cy="1141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4006800" y="2941560"/>
                <a:ext cx="1207800" cy="2296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998520" y="3917880"/>
                <a:ext cx="687240" cy="1710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006800" y="4089240"/>
                <a:ext cx="679320" cy="4014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3998880" y="3558960"/>
                <a:ext cx="0" cy="8647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1969920" y="3472920"/>
                <a:ext cx="1960560" cy="100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Positive 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hydrogen regions 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of water molecules 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ling to chloride anions (Cl</a:t>
                </a:r>
                <a:r>
                  <a:rPr b="0" lang="en-US" sz="1200" spc="-1" strike="noStrike" baseline="30000">
                    <a:solidFill>
                      <a:srgbClr val="000000"/>
                    </a:solidFill>
                    <a:latin typeface="Arial"/>
                  </a:rPr>
                  <a:t>–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)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372000" y="4657680"/>
                <a:ext cx="25560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6806880" y="4383000"/>
                <a:ext cx="30384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352920" y="3816360"/>
                <a:ext cx="30384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6363720" y="2984400"/>
                <a:ext cx="30384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6364800" y="4253760"/>
                <a:ext cx="2430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30000">
                    <a:solidFill>
                      <a:srgbClr val="000000"/>
                    </a:solidFill>
                    <a:latin typeface="Arial"/>
                  </a:rPr>
                  <a:t>–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289920" y="4987440"/>
                <a:ext cx="2430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30000">
                    <a:solidFill>
                      <a:srgbClr val="000000"/>
                    </a:solidFill>
                    <a:latin typeface="Arial"/>
                  </a:rPr>
                  <a:t>–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779160" y="4817520"/>
                <a:ext cx="2430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30000">
                    <a:solidFill>
                      <a:srgbClr val="000000"/>
                    </a:solidFill>
                    <a:latin typeface="Arial"/>
                  </a:rPr>
                  <a:t>–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6868080" y="3075840"/>
                <a:ext cx="2430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30000">
                    <a:solidFill>
                      <a:srgbClr val="000000"/>
                    </a:solidFill>
                    <a:latin typeface="Arial"/>
                  </a:rPr>
                  <a:t>–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6348240" y="3391920"/>
                <a:ext cx="27936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30000">
                    <a:solidFill>
                      <a:srgbClr val="000000"/>
                    </a:solidFill>
                    <a:latin typeface="Arial"/>
                  </a:rPr>
                  <a:t>–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6862680" y="2694960"/>
                <a:ext cx="2808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30000">
                    <a:solidFill>
                      <a:srgbClr val="000000"/>
                    </a:solidFill>
                    <a:latin typeface="Arial"/>
                  </a:rPr>
                  <a:t>–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5214600" y="2754000"/>
                <a:ext cx="57024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Na</a:t>
                </a:r>
                <a:r>
                  <a:rPr b="0" lang="en-US" sz="1600" spc="-1" strike="noStrike" baseline="30000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4840200" y="4028760"/>
                <a:ext cx="44244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Cl</a:t>
                </a:r>
                <a:r>
                  <a:rPr b="0" lang="en-US" sz="1600" spc="-1" strike="noStrike" baseline="30000">
                    <a:solidFill>
                      <a:srgbClr val="000000"/>
                    </a:solidFill>
                    <a:latin typeface="Arial"/>
                  </a:rPr>
                  <a:t>–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3" name=""/>
            <p:cNvSpPr/>
            <p:nvPr/>
          </p:nvSpPr>
          <p:spPr>
            <a:xfrm>
              <a:off x="1211040" y="6146280"/>
              <a:ext cx="10278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igure 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4" name=""/>
          <p:cNvSpPr/>
          <p:nvPr/>
        </p:nvSpPr>
        <p:spPr>
          <a:xfrm>
            <a:off x="8534520" y="601992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46E64-927A-4A61-9C30-5BCE2EEC17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304920" y="685440"/>
            <a:ext cx="853416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ater can also interact with polar molecules such as protei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7" name=""/>
          <p:cNvGrpSpPr/>
          <p:nvPr/>
        </p:nvGrpSpPr>
        <p:grpSpPr>
          <a:xfrm>
            <a:off x="301320" y="3002040"/>
            <a:ext cx="8618400" cy="2561040"/>
            <a:chOff x="301320" y="3002040"/>
            <a:chExt cx="8618400" cy="2561040"/>
          </a:xfrm>
        </p:grpSpPr>
        <p:grpSp>
          <p:nvGrpSpPr>
            <p:cNvPr id="318" name=""/>
            <p:cNvGrpSpPr/>
            <p:nvPr/>
          </p:nvGrpSpPr>
          <p:grpSpPr>
            <a:xfrm>
              <a:off x="1296360" y="3002040"/>
              <a:ext cx="7623360" cy="2561040"/>
              <a:chOff x="1296360" y="3002040"/>
              <a:chExt cx="7623360" cy="2561040"/>
            </a:xfrm>
          </p:grpSpPr>
          <p:pic>
            <p:nvPicPr>
              <p:cNvPr id="319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472400" y="3002040"/>
                <a:ext cx="5230440" cy="1793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0" name=""/>
              <p:cNvSpPr/>
              <p:nvPr/>
            </p:nvSpPr>
            <p:spPr>
              <a:xfrm>
                <a:off x="6778440" y="3178440"/>
                <a:ext cx="1483560" cy="12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>
                  <a:lnSpc>
                    <a:spcPts val="18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This oxygen is attracted to a slight positive charge on the lysozyme molecule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6805080" y="3377520"/>
                <a:ext cx="0" cy="8416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5809680" y="4165200"/>
                <a:ext cx="3110040" cy="778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>
                  <a:lnSpc>
                    <a:spcPts val="18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This oxygen is attracted to a slight 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negative charge on the lysozyme molecule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1296360" y="4784760"/>
                <a:ext cx="1797120" cy="778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(a)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Lysozyme molecule 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    in a nonaqueous 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    environm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188160" y="4781520"/>
                <a:ext cx="2373480" cy="778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(b) 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Lysozyme molecule (purple) 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    in an aqueous environment 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    such as tears or saliv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5655600" y="4815000"/>
                <a:ext cx="3094200" cy="54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(c) 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Ionic and polar regions on the protein’s 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    Surface attract water molecules.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5976720" y="3996360"/>
                <a:ext cx="37728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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6387840" y="3668040"/>
                <a:ext cx="372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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–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8" name=""/>
            <p:cNvSpPr/>
            <p:nvPr/>
          </p:nvSpPr>
          <p:spPr>
            <a:xfrm>
              <a:off x="301320" y="5249520"/>
              <a:ext cx="10278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igure 3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9" name=""/>
          <p:cNvSpPr/>
          <p:nvPr/>
        </p:nvSpPr>
        <p:spPr>
          <a:xfrm>
            <a:off x="8534520" y="601992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CE482-559A-4659-BA7D-9B8D8DB40B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Hydrophilic and Hydrophobic Substances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304920" y="685440"/>
            <a:ext cx="8534160" cy="13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hydrophilic substa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s an affinity for w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8534520" y="601992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84FCC-890F-41AB-91C7-F37FC8CA6C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304920" y="685440"/>
            <a:ext cx="8534160" cy="13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hydrophobic substa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not have an affinity for w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8534520" y="601992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A6189-3717-48EC-9E47-4605A3973E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Solute Concentration in Aqueous Solutions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nce most biochemical reactions occur in wa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important to learn to calculate the concentration of solutes in an aqueous so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8534520" y="601992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BD963-44EA-4119-8237-05ADCA2C7F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685440"/>
            <a:ext cx="8534160" cy="366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mo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resents an exact number of molecules of a substance in a given m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lar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the number of moles of solute per liter of so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8534520" y="601992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C37CF-7DA2-4EAB-A05E-FBE2C72E5F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cept 3.3: Dissociation of water molecules leads to acidic and basic conditions that affect living organism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8534520" y="601992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766B3-53FA-4A09-BF89-DF38CBC149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28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ater can dissociat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o hydronium ions and hydroxide 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anges in the concentration of these 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have a great affect on living 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132840" y="4200480"/>
            <a:ext cx="8783640" cy="2124360"/>
            <a:chOff x="132840" y="4200480"/>
            <a:chExt cx="8783640" cy="2124360"/>
          </a:xfrm>
        </p:grpSpPr>
        <p:grpSp>
          <p:nvGrpSpPr>
            <p:cNvPr id="348" name=""/>
            <p:cNvGrpSpPr/>
            <p:nvPr/>
          </p:nvGrpSpPr>
          <p:grpSpPr>
            <a:xfrm>
              <a:off x="2568240" y="4200480"/>
              <a:ext cx="6348240" cy="2124360"/>
              <a:chOff x="2568240" y="4200480"/>
              <a:chExt cx="6348240" cy="2124360"/>
            </a:xfrm>
          </p:grpSpPr>
          <p:pic>
            <p:nvPicPr>
              <p:cNvPr id="349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2568600" y="4423680"/>
                <a:ext cx="6165360" cy="1317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0" name=""/>
              <p:cNvSpPr/>
              <p:nvPr/>
            </p:nvSpPr>
            <p:spPr>
              <a:xfrm>
                <a:off x="2636640" y="5257800"/>
                <a:ext cx="23508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038280" y="5775120"/>
                <a:ext cx="1166400" cy="54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ts val="18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Hydronium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ts val="18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ion (H</a:t>
                </a:r>
                <a:r>
                  <a:rPr b="0" lang="en-US" sz="1600" spc="-1" strike="noStrike" baseline="-25000">
                    <a:solidFill>
                      <a:srgbClr val="000000"/>
                    </a:solidFill>
                    <a:latin typeface="Arial"/>
                  </a:rPr>
                  <a:t>3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r>
                  <a:rPr b="0" lang="en-US" sz="1600" spc="-1" strike="noStrike" baseline="30000">
                    <a:solidFill>
                      <a:srgbClr val="000000"/>
                    </a:solidFill>
                    <a:latin typeface="Arial"/>
                  </a:rPr>
                  <a:t>+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2568240" y="4499280"/>
                <a:ext cx="33120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7817040" y="5763240"/>
                <a:ext cx="1099440" cy="54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ts val="18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Hydroxid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ts val="18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ion (OH</a:t>
                </a:r>
                <a:r>
                  <a:rPr b="0" lang="en-US" sz="1600" spc="-1" strike="noStrike" baseline="45000">
                    <a:solidFill>
                      <a:srgbClr val="000000"/>
                    </a:solidFill>
                    <a:latin typeface="Arial"/>
                  </a:rPr>
                  <a:t>–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8341560" y="5249160"/>
                <a:ext cx="23652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6813360" y="4828680"/>
                <a:ext cx="23616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6360480" y="5184360"/>
                <a:ext cx="23652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6313680" y="4576680"/>
                <a:ext cx="23652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4450680" y="5316840"/>
                <a:ext cx="23760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3884040" y="4861800"/>
                <a:ext cx="23652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6503400" y="4200480"/>
                <a:ext cx="30384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8085960" y="4238280"/>
                <a:ext cx="21456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–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7273440" y="4839840"/>
                <a:ext cx="30384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3" name=""/>
            <p:cNvSpPr/>
            <p:nvPr/>
          </p:nvSpPr>
          <p:spPr>
            <a:xfrm>
              <a:off x="132840" y="5184360"/>
              <a:ext cx="223776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igure on p. 53 of water 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issoci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4" name=""/>
          <p:cNvSpPr/>
          <p:nvPr/>
        </p:nvSpPr>
        <p:spPr>
          <a:xfrm>
            <a:off x="304920" y="617220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2F646-F447-49A1-ADF7-5829080EB0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4920" y="685440"/>
            <a:ext cx="853416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ree-quarters of the Earth’s surface is submerged in wa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abundance of water is the main reason the Earth is habitab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741240" y="3022560"/>
            <a:ext cx="5964480" cy="3531240"/>
            <a:chOff x="741240" y="3022560"/>
            <a:chExt cx="5964480" cy="3531240"/>
          </a:xfrm>
        </p:grpSpPr>
        <p:pic>
          <p:nvPicPr>
            <p:cNvPr id="178" name="" descr=""/>
            <p:cNvPicPr/>
            <p:nvPr/>
          </p:nvPicPr>
          <p:blipFill>
            <a:blip r:embed="rId1"/>
            <a:stretch/>
          </p:blipFill>
          <p:spPr>
            <a:xfrm>
              <a:off x="1816200" y="3022560"/>
              <a:ext cx="4889520" cy="345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"/>
            <p:cNvSpPr/>
            <p:nvPr/>
          </p:nvSpPr>
          <p:spPr>
            <a:xfrm>
              <a:off x="741240" y="6248160"/>
              <a:ext cx="10278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igure 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0" name=""/>
          <p:cNvSpPr/>
          <p:nvPr/>
        </p:nvSpPr>
        <p:spPr>
          <a:xfrm>
            <a:off x="8534520" y="601992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AC74D-B27B-4CA3-8850-DB20B5FA41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Effects of Changes in pH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8534520" y="601992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F545F-AFD2-44B9-B54E-576B9A71CA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Acids and Bases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685440"/>
            <a:ext cx="8534160" cy="366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n aci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any substance that increases the hydrogen ion concentration of a so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b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any substance that reduces the hydrogen ion concentration of a so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8534520" y="601992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CFBA3-8E81-4D53-8EC4-1CC981FCDD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The pH Scale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4920" y="685440"/>
            <a:ext cx="8534160" cy="31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pH of a solu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determined by the relative concentration of hydrogen 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low in an ac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high in a 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534520" y="601992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78CB6-19D2-484A-84E5-0C78A1C9E5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10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pH scale and pH values of various aqueous solu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5" name=""/>
          <p:cNvGrpSpPr/>
          <p:nvPr/>
        </p:nvGrpSpPr>
        <p:grpSpPr>
          <a:xfrm>
            <a:off x="1922040" y="1752120"/>
            <a:ext cx="4655880" cy="4715280"/>
            <a:chOff x="1922040" y="1752120"/>
            <a:chExt cx="4655880" cy="4715280"/>
          </a:xfrm>
        </p:grpSpPr>
        <p:grpSp>
          <p:nvGrpSpPr>
            <p:cNvPr id="376" name=""/>
            <p:cNvGrpSpPr/>
            <p:nvPr/>
          </p:nvGrpSpPr>
          <p:grpSpPr>
            <a:xfrm>
              <a:off x="3057480" y="1752120"/>
              <a:ext cx="3520440" cy="4715280"/>
              <a:chOff x="3057480" y="1752120"/>
              <a:chExt cx="3520440" cy="4715280"/>
            </a:xfrm>
          </p:grpSpPr>
          <p:pic>
            <p:nvPicPr>
              <p:cNvPr id="377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060360" y="2104200"/>
                <a:ext cx="1644480" cy="4230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78" name=""/>
              <p:cNvSpPr/>
              <p:nvPr/>
            </p:nvSpPr>
            <p:spPr>
              <a:xfrm rot="16200000">
                <a:off x="2647800" y="2854440"/>
                <a:ext cx="1724400" cy="51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Increasingly 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Acidi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[H</a:t>
                </a:r>
                <a:r>
                  <a:rPr b="0" lang="en-US" sz="1400" spc="-1" strike="noStrike" baseline="30000">
                    <a:solidFill>
                      <a:srgbClr val="000000"/>
                    </a:solidFill>
                    <a:latin typeface="Arial"/>
                  </a:rPr>
                  <a:t>+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] &gt; [OH</a:t>
                </a:r>
                <a:r>
                  <a:rPr b="0" lang="en-US" sz="1400" spc="-1" strike="noStrike" baseline="30000">
                    <a:solidFill>
                      <a:srgbClr val="000000"/>
                    </a:solidFill>
                    <a:latin typeface="Arial"/>
                  </a:rPr>
                  <a:t>–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 rot="16200000">
                <a:off x="2688120" y="5050800"/>
                <a:ext cx="1665000" cy="51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Increasingly 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Basi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[H</a:t>
                </a:r>
                <a:r>
                  <a:rPr b="0" lang="en-US" sz="1400" spc="-1" strike="noStrike" baseline="30000">
                    <a:solidFill>
                      <a:srgbClr val="000000"/>
                    </a:solidFill>
                    <a:latin typeface="Arial"/>
                  </a:rPr>
                  <a:t>+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] &lt; [OH</a:t>
                </a:r>
                <a:r>
                  <a:rPr b="0" lang="en-US" sz="1400" spc="-1" strike="noStrike" baseline="30000">
                    <a:solidFill>
                      <a:srgbClr val="000000"/>
                    </a:solidFill>
                    <a:latin typeface="Arial"/>
                  </a:rPr>
                  <a:t>–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3057480" y="3977280"/>
                <a:ext cx="1104120" cy="51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Neutral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[H</a:t>
                </a:r>
                <a:r>
                  <a:rPr b="0" lang="en-US" sz="1400" spc="-1" strike="noStrike" baseline="30000">
                    <a:solidFill>
                      <a:srgbClr val="000000"/>
                    </a:solidFill>
                    <a:latin typeface="Arial"/>
                  </a:rPr>
                  <a:t>+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] = [OH</a:t>
                </a:r>
                <a:r>
                  <a:rPr b="0" lang="en-US" sz="1400" spc="-1" strike="noStrike" baseline="30000">
                    <a:solidFill>
                      <a:srgbClr val="000000"/>
                    </a:solidFill>
                    <a:latin typeface="Arial"/>
                  </a:rPr>
                  <a:t>–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5004000" y="6008400"/>
                <a:ext cx="122616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Oven clean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4614120" y="1951920"/>
                <a:ext cx="38448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4617000" y="2245320"/>
                <a:ext cx="38448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4623840" y="2559600"/>
                <a:ext cx="38448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4630680" y="2851560"/>
                <a:ext cx="38448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4642560" y="3156120"/>
                <a:ext cx="38448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4638240" y="3459960"/>
                <a:ext cx="38448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4630680" y="3763080"/>
                <a:ext cx="38448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4642560" y="4066200"/>
                <a:ext cx="38448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4642560" y="4359960"/>
                <a:ext cx="38448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4630680" y="4653720"/>
                <a:ext cx="38448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4640400" y="4977000"/>
                <a:ext cx="38304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4640400" y="5282280"/>
                <a:ext cx="38304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1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4638960" y="5573880"/>
                <a:ext cx="38304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1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4638960" y="5868360"/>
                <a:ext cx="38304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1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4638960" y="6161760"/>
                <a:ext cx="38304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1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4509720" y="1752120"/>
                <a:ext cx="9378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pH Scal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4973040" y="2263320"/>
                <a:ext cx="99288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Battery aci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4995360" y="2585880"/>
                <a:ext cx="1576440" cy="39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igestive (stomach)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juice, lemon juic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5003640" y="2850480"/>
                <a:ext cx="1545840" cy="45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Vinegar, beer, wine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ol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5002560" y="3180960"/>
                <a:ext cx="105984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Tomato juic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4994280" y="3461400"/>
                <a:ext cx="1061280" cy="45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Black coffee 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ainwat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4996440" y="3782520"/>
                <a:ext cx="54936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Urin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4992480" y="4066200"/>
                <a:ext cx="1094760" cy="45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Pure wat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Human bloo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4994280" y="4523400"/>
                <a:ext cx="83124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eawat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4993560" y="5101920"/>
                <a:ext cx="133092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Milk of magnesi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4990680" y="5396400"/>
                <a:ext cx="158724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Household ammoni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4990680" y="5723640"/>
                <a:ext cx="141048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Household bleac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9" name=""/>
            <p:cNvSpPr/>
            <p:nvPr/>
          </p:nvSpPr>
          <p:spPr>
            <a:xfrm>
              <a:off x="1922040" y="6121080"/>
              <a:ext cx="10278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igure 3.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0" name=""/>
          <p:cNvSpPr/>
          <p:nvPr/>
        </p:nvSpPr>
        <p:spPr>
          <a:xfrm>
            <a:off x="8534520" y="601992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3351B-7CA9-4F83-A40A-5BA1EAC0DF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Buffers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304920" y="685440"/>
            <a:ext cx="8534160" cy="13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internal pH of most living cel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t remain close to pH 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8534520" y="601992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9B762-A61A-4D02-B10D-3EBEA8A0A7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47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913"/>
              </a:spcBef>
              <a:spcAft>
                <a:spcPts val="850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Buffer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substances that minimize changes in the concentrations of hydrogen and hydroxide ions in a so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ist of an acid-base pair that reversibly combines with hydrogen 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8534520" y="658332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0A628-7A7C-4937-8C11-144F66B1D7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838080" y="411480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re on Buff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228600" y="1600200"/>
            <a:ext cx="8686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80880" y="2654280"/>
            <a:ext cx="845820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ffers are able to donate [H+] when they are deple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ffers are able to accept [H+] when they are in exces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ids will donate [H+] and therefore increase the [H+] of the buffer.  This will shift the equilibrium to the left, keeping things stab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es will accept [H+] and therefore decrease the [H+] of the buffer.  This will shift the equilibrium to the right, keeping things stab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80880" y="1496880"/>
            <a:ext cx="9144000" cy="11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lvl="1" marL="457200">
              <a:lnSpc>
                <a:spcPct val="100000"/>
              </a:lnSpc>
              <a:spcBef>
                <a:spcPts val="134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bonic Acid 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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Bicarbonate ion   +    Hydrogen 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eak acid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                    Conjugate B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It didn’t dissociate completel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534520" y="601992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964E6-37E0-44AA-8CD8-DA48DDB3DB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The Threat of Acid Precipitation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29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id precipit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ers to rain, snow, or fog with a pH lower than pH 5.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caused primarily by the mixing of different pollutants with water in the a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8534520" y="601992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79271-AF69-4A10-8452-3DE1873CF8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4920" y="685440"/>
            <a:ext cx="8534160" cy="13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id precipit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damage life in Earth’s 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830160" y="2119320"/>
            <a:ext cx="7170840" cy="4370760"/>
            <a:chOff x="830160" y="2119320"/>
            <a:chExt cx="7170840" cy="4370760"/>
          </a:xfrm>
        </p:grpSpPr>
        <p:grpSp>
          <p:nvGrpSpPr>
            <p:cNvPr id="430" name=""/>
            <p:cNvGrpSpPr/>
            <p:nvPr/>
          </p:nvGrpSpPr>
          <p:grpSpPr>
            <a:xfrm>
              <a:off x="1905120" y="2119320"/>
              <a:ext cx="6095880" cy="4281120"/>
              <a:chOff x="1905120" y="2119320"/>
              <a:chExt cx="6095880" cy="4281120"/>
            </a:xfrm>
          </p:grpSpPr>
          <p:pic>
            <p:nvPicPr>
              <p:cNvPr id="431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905120" y="2133000"/>
                <a:ext cx="6095880" cy="42674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432" name=""/>
              <p:cNvGrpSpPr/>
              <p:nvPr/>
            </p:nvGrpSpPr>
            <p:grpSpPr>
              <a:xfrm>
                <a:off x="2059560" y="2119320"/>
                <a:ext cx="1373760" cy="4122000"/>
                <a:chOff x="2059560" y="2119320"/>
                <a:chExt cx="1373760" cy="4122000"/>
              </a:xfrm>
            </p:grpSpPr>
            <p:sp>
              <p:nvSpPr>
                <p:cNvPr id="433" name=""/>
                <p:cNvSpPr/>
                <p:nvPr/>
              </p:nvSpPr>
              <p:spPr>
                <a:xfrm>
                  <a:off x="2116800" y="3760560"/>
                  <a:ext cx="44136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tIns="-45720" bIns="-45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>
                  <a:off x="2167920" y="2119320"/>
                  <a:ext cx="284040" cy="630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r"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>
                  <a:off x="2158200" y="2652480"/>
                  <a:ext cx="284040" cy="630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r"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6" name=""/>
                <p:cNvSpPr/>
                <p:nvPr/>
              </p:nvSpPr>
              <p:spPr>
                <a:xfrm>
                  <a:off x="2158200" y="3186000"/>
                  <a:ext cx="284040" cy="630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r"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4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7" name=""/>
                <p:cNvSpPr/>
                <p:nvPr/>
              </p:nvSpPr>
              <p:spPr>
                <a:xfrm>
                  <a:off x="2162520" y="3718080"/>
                  <a:ext cx="284040" cy="630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r"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6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7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8" name=""/>
                <p:cNvSpPr/>
                <p:nvPr/>
              </p:nvSpPr>
              <p:spPr>
                <a:xfrm>
                  <a:off x="2162520" y="4259520"/>
                  <a:ext cx="284040" cy="630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r"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8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9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9" name=""/>
                <p:cNvSpPr/>
                <p:nvPr/>
              </p:nvSpPr>
              <p:spPr>
                <a:xfrm>
                  <a:off x="2063880" y="4798800"/>
                  <a:ext cx="383040" cy="630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r"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0" name=""/>
                <p:cNvSpPr/>
                <p:nvPr/>
              </p:nvSpPr>
              <p:spPr>
                <a:xfrm>
                  <a:off x="2063880" y="5355000"/>
                  <a:ext cx="383040" cy="630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r"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1" name=""/>
                <p:cNvSpPr/>
                <p:nvPr/>
              </p:nvSpPr>
              <p:spPr>
                <a:xfrm>
                  <a:off x="2059560" y="5892120"/>
                  <a:ext cx="38304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r"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4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2" name=""/>
                <p:cNvSpPr/>
                <p:nvPr/>
              </p:nvSpPr>
              <p:spPr>
                <a:xfrm>
                  <a:off x="2589840" y="2148480"/>
                  <a:ext cx="706320" cy="579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More</a:t>
                  </a:r>
                  <a:br>
                    <a:rPr sz="1600"/>
                  </a:b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acidic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3" name=""/>
                <p:cNvSpPr/>
                <p:nvPr/>
              </p:nvSpPr>
              <p:spPr>
                <a:xfrm>
                  <a:off x="2461320" y="2732760"/>
                  <a:ext cx="70560" cy="1008360"/>
                </a:xfrm>
                <a:custGeom>
                  <a:avLst/>
                  <a:gdLst>
                    <a:gd name="textAreaLeft" fmla="*/ 0 w 70560"/>
                    <a:gd name="textAreaRight" fmla="*/ 25560 w 70560"/>
                    <a:gd name="textAreaTop" fmla="*/ 26280 h 1008360"/>
                    <a:gd name="textAreaBottom" fmla="*/ 982080 h 10083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cubicBezTo>
                        <a:pt x="5400" y="0"/>
                        <a:pt x="10800" y="900"/>
                        <a:pt x="10800" y="1800"/>
                      </a:cubicBezTo>
                      <a:lnTo>
                        <a:pt x="10800" y="9000"/>
                      </a:lnTo>
                      <a:cubicBezTo>
                        <a:pt x="10800" y="9900"/>
                        <a:pt x="16200" y="10800"/>
                        <a:pt x="21600" y="10800"/>
                      </a:cubicBezTo>
                      <a:cubicBezTo>
                        <a:pt x="16200" y="10800"/>
                        <a:pt x="10800" y="11700"/>
                        <a:pt x="10800" y="12600"/>
                      </a:cubicBezTo>
                      <a:lnTo>
                        <a:pt x="10800" y="19800"/>
                      </a:lnTo>
                      <a:cubicBezTo>
                        <a:pt x="10800" y="20700"/>
                        <a:pt x="5400" y="21600"/>
                        <a:pt x="0" y="21600"/>
                      </a:cubicBezTo>
                    </a:path>
                  </a:pathLst>
                </a:custGeom>
                <a:noFill/>
                <a:ln w="34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4" name=""/>
                <p:cNvSpPr/>
                <p:nvPr/>
              </p:nvSpPr>
              <p:spPr>
                <a:xfrm>
                  <a:off x="2590200" y="2945520"/>
                  <a:ext cx="581400" cy="579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Acid</a:t>
                  </a:r>
                  <a:br>
                    <a:rPr sz="1600"/>
                  </a:b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rain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5" name=""/>
                <p:cNvSpPr/>
                <p:nvPr/>
              </p:nvSpPr>
              <p:spPr>
                <a:xfrm>
                  <a:off x="2594520" y="3516840"/>
                  <a:ext cx="838800" cy="579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Normal</a:t>
                  </a:r>
                  <a:br>
                    <a:rPr sz="1600"/>
                  </a:b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rain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6" name=""/>
                <p:cNvSpPr/>
                <p:nvPr/>
              </p:nvSpPr>
              <p:spPr>
                <a:xfrm>
                  <a:off x="2593080" y="5662080"/>
                  <a:ext cx="660600" cy="579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More</a:t>
                  </a:r>
                  <a:br>
                    <a:rPr sz="1600"/>
                  </a:b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basic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47" name=""/>
            <p:cNvSpPr/>
            <p:nvPr/>
          </p:nvSpPr>
          <p:spPr>
            <a:xfrm>
              <a:off x="830160" y="6184440"/>
              <a:ext cx="10278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igure 3.9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8" name=""/>
          <p:cNvSpPr/>
          <p:nvPr/>
        </p:nvSpPr>
        <p:spPr>
          <a:xfrm>
            <a:off x="8534520" y="597384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78EE7-38C1-4104-B152-D73577E732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685440"/>
            <a:ext cx="853416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cept 3.1: The polarity of water molecules results in hydrogen bond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water molecule is a polar molecu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8534520" y="601992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F7A8E-5283-4E21-BAFC-41F0DC8B6A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26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polarity of water molecu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lows them to form hydrogen bonds with each oth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ributes to the various properties water exhibi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1863360" y="3505320"/>
            <a:ext cx="4994280" cy="2972160"/>
            <a:chOff x="1863360" y="3505320"/>
            <a:chExt cx="4994280" cy="2972160"/>
          </a:xfrm>
        </p:grpSpPr>
        <p:grpSp>
          <p:nvGrpSpPr>
            <p:cNvPr id="187" name=""/>
            <p:cNvGrpSpPr/>
            <p:nvPr/>
          </p:nvGrpSpPr>
          <p:grpSpPr>
            <a:xfrm>
              <a:off x="2819520" y="3505320"/>
              <a:ext cx="4038120" cy="2895480"/>
              <a:chOff x="2819520" y="3505320"/>
              <a:chExt cx="4038120" cy="2895480"/>
            </a:xfrm>
          </p:grpSpPr>
          <p:pic>
            <p:nvPicPr>
              <p:cNvPr id="188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2819520" y="3505320"/>
                <a:ext cx="3610440" cy="2895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4676040" y="4343760"/>
                <a:ext cx="1083960" cy="249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 flipH="1">
                <a:off x="5346360" y="4593600"/>
                <a:ext cx="413280" cy="7894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5822640" y="4330080"/>
                <a:ext cx="1035000" cy="54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>
                  <a:lnSpc>
                    <a:spcPts val="18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Hydrogen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bond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4434840" y="4353120"/>
                <a:ext cx="30384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4953960" y="5167080"/>
                <a:ext cx="18396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4406040" y="4593960"/>
                <a:ext cx="33120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4719960" y="5023440"/>
                <a:ext cx="3132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390480" y="5018400"/>
                <a:ext cx="30384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4062240" y="5433840"/>
                <a:ext cx="30384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3864960" y="4966920"/>
                <a:ext cx="44100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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–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4357080" y="4026960"/>
                <a:ext cx="44100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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–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38720" y="5418720"/>
                <a:ext cx="45468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 –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4174560" y="5200560"/>
                <a:ext cx="44100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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–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2" name=""/>
            <p:cNvSpPr/>
            <p:nvPr/>
          </p:nvSpPr>
          <p:spPr>
            <a:xfrm>
              <a:off x="1863360" y="6171840"/>
              <a:ext cx="10278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igure 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3" name=""/>
          <p:cNvSpPr/>
          <p:nvPr/>
        </p:nvSpPr>
        <p:spPr>
          <a:xfrm>
            <a:off x="8534520" y="601992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8C626-5720-4B8A-8A11-464F2B9452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10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cept 3.2: Four emergent properties of water contribute to Earth’s fitness for lif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8534520" y="601992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E266B-95B2-46FC-8A86-798E44E1FC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Cohesion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04920" y="685440"/>
            <a:ext cx="8534160" cy="32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ater molecules exhibit cohe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he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the bonding of a high percentage of the molecules to neighboring molecu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due to hydrogen bo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8534520" y="601992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C8288-4F6A-4DA5-9972-393DC3E012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he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lps pull water up through the microscopic vessels of pl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6508800" y="6202440"/>
            <a:ext cx="493560" cy="70920"/>
            <a:chOff x="6508800" y="6202440"/>
            <a:chExt cx="493560" cy="70920"/>
          </a:xfrm>
        </p:grpSpPr>
        <p:sp>
          <p:nvSpPr>
            <p:cNvPr id="213" name=""/>
            <p:cNvSpPr/>
            <p:nvPr/>
          </p:nvSpPr>
          <p:spPr>
            <a:xfrm>
              <a:off x="6522840" y="6237360"/>
              <a:ext cx="459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508800" y="6202440"/>
              <a:ext cx="0" cy="69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002360" y="6203160"/>
              <a:ext cx="0" cy="70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817200" y="2592360"/>
            <a:ext cx="6292080" cy="3961440"/>
            <a:chOff x="817200" y="2592360"/>
            <a:chExt cx="6292080" cy="3961440"/>
          </a:xfrm>
        </p:grpSpPr>
        <p:pic>
          <p:nvPicPr>
            <p:cNvPr id="217" name="" descr=""/>
            <p:cNvPicPr/>
            <p:nvPr/>
          </p:nvPicPr>
          <p:blipFill>
            <a:blip r:embed="rId1"/>
            <a:stretch/>
          </p:blipFill>
          <p:spPr>
            <a:xfrm>
              <a:off x="1874880" y="2592360"/>
              <a:ext cx="5127480" cy="387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" name=""/>
            <p:cNvSpPr/>
            <p:nvPr/>
          </p:nvSpPr>
          <p:spPr>
            <a:xfrm flipH="1">
              <a:off x="5678280" y="3448080"/>
              <a:ext cx="230040" cy="318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900760" y="3448080"/>
              <a:ext cx="237960" cy="851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829400" y="3183120"/>
              <a:ext cx="22302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Water conducting cel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410520" y="6232320"/>
              <a:ext cx="6987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00 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µ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817200" y="6248160"/>
              <a:ext cx="10278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igure 3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3" name=""/>
          <p:cNvSpPr/>
          <p:nvPr/>
        </p:nvSpPr>
        <p:spPr>
          <a:xfrm>
            <a:off x="8534520" y="601992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D6054-B356-48D8-A404-BD6B1CCEE5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247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urface t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a measure of how hard it is to break the surface of a liqu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related to cohe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1312560" y="3251160"/>
            <a:ext cx="5469120" cy="3315240"/>
            <a:chOff x="1312560" y="3251160"/>
            <a:chExt cx="5469120" cy="3315240"/>
          </a:xfrm>
        </p:grpSpPr>
        <p:pic>
          <p:nvPicPr>
            <p:cNvPr id="227" name="" descr=""/>
            <p:cNvPicPr/>
            <p:nvPr/>
          </p:nvPicPr>
          <p:blipFill>
            <a:blip r:embed="rId1"/>
            <a:stretch/>
          </p:blipFill>
          <p:spPr>
            <a:xfrm>
              <a:off x="2438280" y="3251160"/>
              <a:ext cx="4343400" cy="322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" name=""/>
            <p:cNvSpPr/>
            <p:nvPr/>
          </p:nvSpPr>
          <p:spPr>
            <a:xfrm>
              <a:off x="1312560" y="6260760"/>
              <a:ext cx="10278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igure 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9" name=""/>
          <p:cNvSpPr/>
          <p:nvPr/>
        </p:nvSpPr>
        <p:spPr>
          <a:xfrm>
            <a:off x="8534520" y="601992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4952D-50FE-41D8-8E53-3B4A9CD5FB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1T17:04:39Z</dcterms:created>
  <dc:creator>BCP User</dc:creator>
  <dc:description/>
  <dc:language>en-US</dc:language>
  <cp:lastModifiedBy> </cp:lastModifiedBy>
  <cp:lastPrinted>2004-10-27T10:57:23Z</cp:lastPrinted>
  <dcterms:modified xsi:type="dcterms:W3CDTF">2006-09-20T09:08:09Z</dcterms:modified>
  <cp:revision>201</cp:revision>
  <dc:subject/>
  <dc:title>video slide</dc:title>
</cp:coreProperties>
</file>